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8CD6-F762-45BA-A105-1564F99D938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912-2339-4097-A658-AE857818737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BC10-3C77-4D27-AFB2-842A036DA25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ill neeed to choose the most appropriate tool on what it is they are measuring, eg: understanding of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3C3-9006-41E9-A5A5-AC73B5F2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526-C1A9-47F7-9435-1CD30014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DE1C9-27C6-4A5B-8AC1-7F35309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12151-EB84-4940-A7DF-5F7A7A17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14324-9DA2-4248-9DEC-3E9BE0B3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EB1D3-4193-4653-84E7-5AC8D3C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8735E-A73E-4121-B1DE-53ABAE7A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B4190-FF7B-40B8-A113-8D6A6DFC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0A0CC-F472-4FB4-95D9-8CFBD042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A9744-3C1E-4923-A32C-F2866031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A0C31-230E-4D04-9183-A246E85D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3BB-60A9-4282-BA86-CD023EFB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DFE-8063-4975-9A2C-DEE141F7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3D7F-ADF5-47AD-A52F-2F5D4BEC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65A9-69B1-4340-BD35-AC2D7F6A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A257-8113-497C-96CA-333CFFC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273D-98EC-45B3-8F3E-F26DAE9D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0F97-9484-4374-95F1-10C757E0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2368-7408-45AA-9FA3-F8673648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118A-F09F-4FE7-AEB6-1C6B2A6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983-0801-4D92-A95A-B5D206F6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DF8E-2E50-4642-84D8-7809A8CB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15CC-094E-4457-B562-C771C188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9397-7906-4970-9785-C4916488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3B12-D0EA-443B-B96C-EC5F6560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5AE7-C667-45EF-AC94-8A7DA500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D295-3DE6-40E9-9CC1-577EAA7A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941A-C8F5-4A11-BEC3-A1CEB807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53A8-CFA6-49C1-8CBB-C8DA375D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16BF-5185-49E0-A38D-4674C44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2E9C-D950-4007-84B0-70E1F642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424-0268-4A31-959C-3A2858A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3184-3C4A-4ACB-B1B5-98EBC00F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D7B4-62AB-4520-BE97-4D76A85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173A9-F8B2-49C5-BB8A-534F8C98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74A4-6316-4741-95C7-7CA10C2A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6117A-C171-426E-B994-338E40B7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A49F-033C-4620-A1A6-16A25D09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CB4B-6B32-463D-A163-257D963B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52B3-51FA-4708-9A40-C8A625C9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A2FED-48FF-4AC3-9EA1-9499812F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C8913-1D30-497C-9388-C75BF2A9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A64-685E-4459-8FB0-8A2C3E4F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A47AF-8CEC-4E72-A0AF-1EAC9F22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621F-9713-4A49-8099-30EAF33D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038A-938D-4449-AD56-F4AB077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81358-8855-4243-AF6B-3FB7080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F538-C3C8-4CAB-94B9-BBC2E74B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D290-E6E4-44AC-A865-41C026B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0574-6130-4B29-BACD-84C5001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1F62-6E54-4C68-B6FE-DB312BE0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629D-3D07-45A6-B3BF-2872DEDA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A1B66-62F9-44D1-B93D-192C4FD6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CE4-DD43-4C69-ACFC-8E98E53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BBC51-BA69-47DB-96F7-26ED36CE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4610-BEA3-4DAA-B369-A2310445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F6BC-71E0-42FA-A297-3D49BCE4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015DC-DD27-4554-AD43-94AF18F3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5581E-CB9D-4921-9097-99E8C0A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855A-AE6F-4934-BE16-D09C27AB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563E-631D-489B-96E8-56D0805E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4EB0-2D01-4165-A1C4-54D02FB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3EF1A-3BCC-4755-8B4E-CE021A50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F679-B003-4CBE-92A4-81AF9D05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578-98E4-4894-9931-D157196C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4EF6-A17F-4594-9FB6-79FE86B0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F69AC-F3A2-4120-89BD-5B8246C3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FB26B-86C6-47D8-94AE-B11CFCC4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B39A1-FA9F-4AAA-9897-F071586E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7DEBA-3BA7-4DBE-A4F7-8DA93FA1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1695D-03E9-4C86-AB92-E32740C5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76552-35E1-4DC3-825B-26B29FF4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15006-FC3E-47EE-9BBC-9A008C09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894C9-F452-49E6-8952-30BC9F3A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95D45-A33B-44F3-8E01-56257EEE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E25-9181-4BD5-A7F2-946DC1AC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8FA8B-0488-4F70-BC40-9CA1F322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4F210-78A6-4FFE-8207-B63B5363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75E03-AD65-4AB2-99F1-85F94B80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2684D-8D84-4859-81DE-41F43A7D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0A260-A132-4F9B-A461-2B57BECF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F72C-8E05-4A14-AB79-806FF4D8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2873-61C4-4DB6-8F97-6039F3F7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A1FD6-35A4-40AF-9BF2-666CCE79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64F28-12BD-49E8-A8DB-3C34C9F2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DD4F8-515C-42E3-B374-FCB7957B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B62-4034-4927-9843-822BF6FB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6AB8C-519D-43DC-90E3-79BE33B4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61453-3363-4ADA-8927-52B1968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7CFEB-D82A-4F20-BF34-EB783FD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882CC-258F-4517-A37D-449D44A7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EEAAE-32F5-4987-B27E-D93DBC03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5F40-3BEA-403E-85F2-53FF7356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A9D0D-F493-45E1-8C5C-FF631FAE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9E1F5-4BAB-447A-8E76-FF619B82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6D575-F592-40F8-97D6-25869D08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B8A19-6A16-4061-A26C-D72C52AB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9AE-2597-4638-B293-7205F18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C9DFA-94B4-4527-9E42-B1F3F090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0AFAE-89A4-43F4-8216-C0C19454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54852-F0C6-4C19-A8AD-0CADDFD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9E6C1-C454-48FD-A09A-D338B75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440B-C7D5-4D62-A399-20D88DA2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90017-7A7D-41FC-A937-E5FDB91B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73BF1-4148-481C-B6F5-24A23E0E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9E441-557F-42A2-924A-0E2639ED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E5661-A7A6-45F4-A332-64AF806F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12004-61B7-4DFA-AC4F-4B178DDD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C18-37F1-42EF-98AC-BBA6CFA1D89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F08B-4CC3-44A3-8BB4-5A7E7EF1FC9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79CC-C6BD-453A-950C-E8188FC3230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8176-08F0-4B51-8B92-5ACD338DA98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5B77-E47F-450F-8987-4CFD296831B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7F01-E4A4-49B8-9B63-56B3EF47E1E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3B55-9829-4BF2-81AF-D0E1E8FF279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8654-C937-40A5-9C8A-D918FA2CCCC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E677-4785-4A0E-9BF8-F84D0B3B4A03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" Target="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z.harvard.edu/vt/VisibleThinking_html_files/03_ThinkingRoutines/03c_CoreRoutines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000"/>
                </a:solidFill>
                <a:latin typeface="Gill Sans MT"/>
              </a:rPr>
              <a:t>Exploring Evidence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2" name="Content Placeholder 3" descr="evidence.jpg"/>
          <p:cNvPicPr/>
          <p:nvPr/>
        </p:nvPicPr>
        <p:blipFill>
          <a:blip r:embed="rId2"/>
          <a:stretch/>
        </p:blipFill>
        <p:spPr>
          <a:xfrm>
            <a:off x="3429000" y="2500200"/>
            <a:ext cx="3548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Evidence in relation to what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vidence that shows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growth over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vidence of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impact of an a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vidence of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learning in relation to your success indica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2640" y="142920"/>
            <a:ext cx="7615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Pre/Post comparis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71360" y="928440"/>
            <a:ext cx="77482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eb80a"/>
                </a:solidFill>
                <a:latin typeface="Gill Sans MT"/>
              </a:rPr>
              <a:t>Eg A Mind Mapping T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For student success indicator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To demonstrate </a:t>
            </a:r>
            <a:r>
              <a:rPr b="0" lang="en-AU" sz="2000" spc="-1" strike="noStrike">
                <a:solidFill>
                  <a:srgbClr val="cc0000"/>
                </a:solidFill>
                <a:latin typeface="Gill Sans MT"/>
              </a:rPr>
              <a:t>knowledge </a:t>
            </a: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and</a:t>
            </a:r>
            <a:r>
              <a:rPr b="0" lang="en-AU" sz="2000" spc="-1" strike="noStrike">
                <a:solidFill>
                  <a:srgbClr val="cc0000"/>
                </a:solidFill>
                <a:latin typeface="Gill Sans MT"/>
              </a:rPr>
              <a:t> understanding of a concept/big ide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Use at the beginning, middle and end of a unit to </a:t>
            </a:r>
            <a:r>
              <a:rPr b="0" lang="en-AU" sz="2000" spc="-1" strike="noStrike">
                <a:solidFill>
                  <a:srgbClr val="ff0000"/>
                </a:solidFill>
                <a:latin typeface="Gill Sans MT"/>
              </a:rPr>
              <a:t>monitor growth over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For teacher success indicators</a:t>
            </a: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to demonstrate growth in understanding and use of a pedagogical practi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1000080" y="40006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86200" y="3786120"/>
            <a:ext cx="4105440" cy="2735280"/>
          </a:xfrm>
          <a:prstGeom prst="rect">
            <a:avLst/>
          </a:prstGeom>
          <a:ln w="0">
            <a:noFill/>
          </a:ln>
        </p:spPr>
      </p:pic>
      <p:sp>
        <p:nvSpPr>
          <p:cNvPr id="448" name="AutoShape 6">
            <a:hlinkClick r:id="rId4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10800"/>
                </a:moveTo>
                <a:lnTo>
                  <a:pt x="19374" y="3794"/>
                </a:lnTo>
                <a:lnTo>
                  <a:pt x="19374" y="17806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Pre/Post comparis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eb80a"/>
                </a:solidFill>
                <a:latin typeface="Gill Sans MT"/>
              </a:rPr>
              <a:t>Eg Thinking Routin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I used to think…….. But now I think…..</a:t>
            </a:r>
            <a:r>
              <a:rPr b="0" lang="en-AU" sz="2000" spc="-1" strike="noStrike">
                <a:solidFill>
                  <a:srgbClr val="feb80a"/>
                </a:solidFill>
                <a:latin typeface="Gill Sans MT"/>
              </a:rPr>
              <a:t> and then to explain shifts in thinking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For a student success indicato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To demonstrate change in </a:t>
            </a:r>
            <a:r>
              <a:rPr b="0" lang="en-AU" sz="2000" spc="-1" strike="noStrike">
                <a:solidFill>
                  <a:srgbClr val="cc0000"/>
                </a:solidFill>
                <a:latin typeface="Gill Sans MT"/>
              </a:rPr>
              <a:t>understanding of a concept/big idea or a way of learn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Use at the beginning, middle and end of a unit to </a:t>
            </a:r>
            <a:r>
              <a:rPr b="0" lang="en-AU" sz="2000" spc="-1" strike="noStrike">
                <a:solidFill>
                  <a:srgbClr val="ff0000"/>
                </a:solidFill>
                <a:latin typeface="Gill Sans MT"/>
              </a:rPr>
              <a:t>monitor growth over ti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Gill Sans MT"/>
              </a:rPr>
              <a:t>For a teacher success indicator</a:t>
            </a: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AU" sz="2000" spc="-1" strike="noStrike">
                <a:solidFill>
                  <a:srgbClr val="713204"/>
                </a:solidFill>
                <a:latin typeface="Gill Sans MT"/>
              </a:rPr>
              <a:t>to demonstrate growth in understanding of a key concept or pedagogical practi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eb80a"/>
                </a:solidFill>
                <a:latin typeface="Gill Sans MT"/>
              </a:rPr>
              <a:t>(How might you capture this….. as audio, video, annotated samp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357280" y="0"/>
            <a:ext cx="5338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Aud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2" name="Picture 4" descr="audit1"/>
          <p:cNvPicPr/>
          <p:nvPr/>
        </p:nvPicPr>
        <p:blipFill>
          <a:blip r:embed="rId2"/>
          <a:stretch/>
        </p:blipFill>
        <p:spPr>
          <a:xfrm>
            <a:off x="1285920" y="928800"/>
            <a:ext cx="7219800" cy="45259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6"/>
          <p:cNvSpPr/>
          <p:nvPr/>
        </p:nvSpPr>
        <p:spPr>
          <a:xfrm>
            <a:off x="1071720" y="58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pos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determine the extent which particular professional learning structures or strategies are known and being used to enable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84720" y="115920"/>
            <a:ext cx="5338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Aud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5" name="Picture 6" descr="audit feedback"/>
          <p:cNvPicPr/>
          <p:nvPr/>
        </p:nvPicPr>
        <p:blipFill>
          <a:blip r:embed="rId2"/>
          <a:stretch/>
        </p:blipFill>
        <p:spPr>
          <a:xfrm>
            <a:off x="1000080" y="285840"/>
            <a:ext cx="5648400" cy="53276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7"/>
          <p:cNvSpPr/>
          <p:nvPr/>
        </p:nvSpPr>
        <p:spPr>
          <a:xfrm>
            <a:off x="6622920" y="785880"/>
            <a:ext cx="252108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pos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determine the extent which particular strategies are known and being used to enable learning and to measure change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ool is used to gather evidence in relation to a particular teacher success indic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cher Success Indicat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l and use feedback to promote reflection and learning for both teachers a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1000080" y="857160"/>
            <a:ext cx="1657440" cy="108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57320" y="142920"/>
            <a:ext cx="533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feb80a"/>
                </a:solidFill>
                <a:latin typeface="Gill Sans MT"/>
              </a:rPr>
              <a:t>Likert Sca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9" name="Picture 6" descr="likert scale"/>
          <p:cNvPicPr/>
          <p:nvPr/>
        </p:nvPicPr>
        <p:blipFill>
          <a:blip r:embed="rId2"/>
          <a:srcRect l="5094" t="0" r="8625" b="0"/>
          <a:stretch/>
        </p:blipFill>
        <p:spPr>
          <a:xfrm>
            <a:off x="1000080" y="785880"/>
            <a:ext cx="542916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6012000" y="1341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6500880" y="928800"/>
            <a:ext cx="251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pose:  To self assess practice using a rating scale and to measure change over time. This rating needs to be supported by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tool could be used to gather </a:t>
            </a:r>
            <a:r>
              <a:rPr b="0" lang="en-US" sz="1800" spc="-1" strike="noStrike" u="sng">
                <a:solidFill>
                  <a:srgbClr val="feb80a"/>
                </a:solidFill>
                <a:uFillTx/>
                <a:latin typeface="Arial"/>
              </a:rPr>
              <a:t>base line da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relation Teachers Success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tool could also be adapted for students to self assess a particular skill, level of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74977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Frequency of U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3" name="Picture 4" descr="frequency of use"/>
          <p:cNvPicPr/>
          <p:nvPr/>
        </p:nvPicPr>
        <p:blipFill>
          <a:blip r:embed="rId2"/>
          <a:srcRect l="3087" t="0" r="0" b="0"/>
          <a:stretch/>
        </p:blipFill>
        <p:spPr>
          <a:xfrm>
            <a:off x="1000080" y="857160"/>
            <a:ext cx="5529240" cy="45259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6"/>
          <p:cNvSpPr/>
          <p:nvPr/>
        </p:nvSpPr>
        <p:spPr>
          <a:xfrm>
            <a:off x="6215040" y="1428840"/>
            <a:ext cx="280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rpos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determine how often particular practices, strategies or contemporary tools are used and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easure the change in use over time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s tool could be used to gather </a:t>
            </a:r>
            <a:r>
              <a:rPr b="0" lang="en-US" sz="1800" spc="-1" strike="noStrike" u="sng">
                <a:solidFill>
                  <a:srgbClr val="feb80a"/>
                </a:solidFill>
                <a:uFillTx/>
                <a:latin typeface="Arial"/>
              </a:rPr>
              <a:t>base line dat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relation to the follow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acher Success Indicato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will….Model reflective thinking routines and provide opportunities for students to use these routines to promote deep understand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"/>
          <p:cNvSpPr/>
          <p:nvPr/>
        </p:nvSpPr>
        <p:spPr>
          <a:xfrm rot="2000400">
            <a:off x="4995360" y="4125960"/>
            <a:ext cx="1079640" cy="287280"/>
          </a:xfrm>
          <a:prstGeom prst="leftArrow">
            <a:avLst>
              <a:gd name="adj1" fmla="val 50000"/>
              <a:gd name="adj2" fmla="val 9395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eb80a"/>
                </a:solidFill>
                <a:latin typeface="Gill Sans MT"/>
              </a:rPr>
              <a:t>Google Online for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0008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dit of contemporary to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8" name="Picture 4" descr="audit of contemporary tools"/>
          <p:cNvPicPr/>
          <p:nvPr/>
        </p:nvPicPr>
        <p:blipFill>
          <a:blip r:embed="rId2"/>
          <a:stretch/>
        </p:blipFill>
        <p:spPr>
          <a:xfrm>
            <a:off x="5857920" y="214200"/>
            <a:ext cx="2684520" cy="39164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contemporary tool graph"/>
          <p:cNvPicPr/>
          <p:nvPr/>
        </p:nvPicPr>
        <p:blipFill>
          <a:blip r:embed="rId3"/>
          <a:srcRect l="3147" t="0" r="0" b="0"/>
          <a:stretch/>
        </p:blipFill>
        <p:spPr>
          <a:xfrm>
            <a:off x="1000080" y="2500200"/>
            <a:ext cx="4394160" cy="33829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8"/>
          <p:cNvSpPr/>
          <p:nvPr/>
        </p:nvSpPr>
        <p:spPr>
          <a:xfrm>
            <a:off x="6858000" y="378612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rpose: To gather </a:t>
            </a:r>
            <a:r>
              <a:rPr b="0" lang="en-US" sz="1800" spc="-1" strike="noStrike">
                <a:solidFill>
                  <a:srgbClr val="feb80a"/>
                </a:solidFill>
                <a:latin typeface="Arial"/>
              </a:rPr>
              <a:t>baseline dat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nd measure </a:t>
            </a:r>
            <a:r>
              <a:rPr b="0" lang="en-US" sz="1800" spc="-1" strike="noStrike">
                <a:solidFill>
                  <a:srgbClr val="feb80a"/>
                </a:solidFill>
                <a:latin typeface="Arial"/>
              </a:rPr>
              <a:t>change over tim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in relation to the familiarity and use of particular contemporary tools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(adapted to gather other kinds of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14292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Wiki ~Ongoing reflec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2" name="Picture 4" descr="teacher reflection wiki"/>
          <p:cNvPicPr/>
          <p:nvPr/>
        </p:nvPicPr>
        <p:blipFill>
          <a:blip r:embed="rId2"/>
          <a:stretch/>
        </p:blipFill>
        <p:spPr>
          <a:xfrm>
            <a:off x="1071720" y="1214280"/>
            <a:ext cx="4257360" cy="36291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teacher reflection wiki2"/>
          <p:cNvPicPr/>
          <p:nvPr/>
        </p:nvPicPr>
        <p:blipFill>
          <a:blip r:embed="rId3"/>
          <a:stretch/>
        </p:blipFill>
        <p:spPr>
          <a:xfrm>
            <a:off x="4857840" y="3000240"/>
            <a:ext cx="4038480" cy="37036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6"/>
          <p:cNvSpPr/>
          <p:nvPr/>
        </p:nvSpPr>
        <p:spPr>
          <a:xfrm>
            <a:off x="6012000" y="1268280"/>
            <a:ext cx="266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urpose: Monitor growth and change in thinking and behaviour through ongoing teacher reflection through the wiki (**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also could be used for stud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Understandings of performan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000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Unit based assessments (of, for, as) provide evidence in relation to student success indicato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Captur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Annotated s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Video &amp; audio form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On wiki, my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3204"/>
                </a:solidFill>
                <a:latin typeface="Gill Sans MT"/>
              </a:rPr>
              <a:t>Refl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7" name="Picture 4" descr="student video"/>
          <p:cNvPicPr/>
          <p:nvPr/>
        </p:nvPicPr>
        <p:blipFill>
          <a:blip r:embed="rId2"/>
          <a:stretch/>
        </p:blipFill>
        <p:spPr>
          <a:xfrm>
            <a:off x="5286240" y="2214720"/>
            <a:ext cx="339120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3920" y="1857240"/>
            <a:ext cx="764388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eb80a"/>
                </a:solidFill>
                <a:latin typeface="Gill Sans MT"/>
              </a:rPr>
              <a:t>What is evidence?</a:t>
            </a:r>
            <a:endParaRPr b="0" lang="en-US" sz="8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2071800" cy="27622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1619280" y="333360"/>
            <a:ext cx="3025800" cy="1712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6372360" y="4148280"/>
            <a:ext cx="24098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292284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Gill Sans MT"/>
              </a:rPr>
              <a:t>Reflection 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9" name="Picture 12" descr="journal-entries"/>
          <p:cNvPicPr/>
          <p:nvPr/>
        </p:nvPicPr>
        <p:blipFill>
          <a:blip r:embed="rId2"/>
          <a:stretch/>
        </p:blipFill>
        <p:spPr>
          <a:xfrm>
            <a:off x="1071720" y="1131840"/>
            <a:ext cx="5000400" cy="35370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6"/>
          <p:cNvSpPr/>
          <p:nvPr/>
        </p:nvSpPr>
        <p:spPr>
          <a:xfrm>
            <a:off x="6215040" y="714240"/>
            <a:ext cx="25909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rpose: To gather evidence in relation to the following student success indic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use new language and apply their learning to new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ll use feedback to direct furth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1071720" y="4857840"/>
            <a:ext cx="789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Arial"/>
              </a:rPr>
              <a:t>‘… </a:t>
            </a:r>
            <a:r>
              <a:rPr b="0" lang="en-US" sz="1800" spc="-1" strike="noStrike">
                <a:solidFill>
                  <a:srgbClr val="922223"/>
                </a:solidFill>
                <a:latin typeface="Arial"/>
              </a:rPr>
              <a:t>the idea is not that one artefact from the classroom be shared as absolute proof of teaching or learning, but rather that a variety of artefacts collected over time could create a convincing argument that important learning is taking place and that a particular teaching practice is effective.’ </a:t>
            </a:r>
            <a:r>
              <a:rPr b="0" i="1" lang="en-US" sz="1800" spc="-1" strike="noStrike">
                <a:solidFill>
                  <a:srgbClr val="922223"/>
                </a:solidFill>
                <a:latin typeface="Arial"/>
              </a:rPr>
              <a:t>(Ref: The Evidence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Gill Sans MT"/>
              </a:rPr>
              <a:t>Existing data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chool Improvement Planning d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Existing literacy and numeracy d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To show growth over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2223"/>
                </a:solidFill>
                <a:latin typeface="Gill Sans MT"/>
              </a:rPr>
              <a:t>What other types of data do you gather in your school? How do you use i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1547280" y="1125000"/>
            <a:ext cx="73868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The evidence of learning that is collected should enable teachers to make judgements about what individual students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know, can do and understand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 in relation to the learning outcom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In planning assessment opportunities, teachers should be aware of the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individual needs of students</a:t>
            </a:r>
            <a:r>
              <a:rPr b="0" lang="en-US" sz="3200" spc="-1" strike="noStrike">
                <a:solidFill>
                  <a:srgbClr val="800000"/>
                </a:solidFill>
                <a:latin typeface="Gill Sans M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187280" y="333000"/>
            <a:ext cx="77472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b80a"/>
                </a:solidFill>
                <a:latin typeface="Gill Sans MT"/>
              </a:rPr>
              <a:t>Teachers could conside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ways in which individual students communic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time required for individual students to communic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support and/or adjustments required to enable individual students to demonstrate their knowledge, skills and understanding in relation to the selected outcom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suitability of one or more assessment strategies for the phase of learning and for the knowledge, skills and understanding that are to be asses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Gill Sans MT"/>
              </a:rPr>
              <a:t>the criteria for assessment to be used to make judgements about what individual students know, can do and understand in relation to the outcom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115640" y="620640"/>
            <a:ext cx="4103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b80a"/>
                </a:solidFill>
                <a:latin typeface="Gill Sans MT"/>
              </a:rPr>
              <a:t>Is there a difference between data and evidence?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1866960" cy="30254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5435640" y="549360"/>
            <a:ext cx="35416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900000" y="184464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eb80a"/>
                </a:solidFill>
                <a:latin typeface="Arial"/>
              </a:rPr>
              <a:t>How can we use evidenc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2700360" y="4365720"/>
            <a:ext cx="4932360" cy="22939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658880" y="260280"/>
            <a:ext cx="2370240" cy="1778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rcRect l="0" t="0" r="7253" b="0"/>
          <a:stretch/>
        </p:blipFill>
        <p:spPr>
          <a:xfrm>
            <a:off x="5913360" y="189000"/>
            <a:ext cx="2737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b80a"/>
                </a:solidFill>
                <a:latin typeface="Gill Sans MT"/>
              </a:rPr>
              <a:t>Evidence</a:t>
            </a: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0" lang="en-US" sz="5400" spc="-1" strike="noStrike">
                <a:solidFill>
                  <a:srgbClr val="feb80a"/>
                </a:solidFill>
                <a:latin typeface="Gill Sans MT"/>
              </a:rPr>
              <a:t>Process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916280"/>
            <a:ext cx="74995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13204"/>
                </a:solidFill>
                <a:latin typeface="Gill Sans MT"/>
              </a:rPr>
              <a:t>Central to this process is the belief that the </a:t>
            </a:r>
            <a:r>
              <a:rPr b="0" i="1" lang="en-US" sz="3200" spc="-1" strike="noStrike">
                <a:solidFill>
                  <a:srgbClr val="feb80a"/>
                </a:solidFill>
                <a:latin typeface="Gill Sans MT"/>
              </a:rPr>
              <a:t>critical examination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713204"/>
                </a:solidFill>
                <a:latin typeface="Gill Sans MT"/>
              </a:rPr>
              <a:t>of teaching and learning evolves most productively from the close examination of evidence that comes from an </a:t>
            </a:r>
            <a:r>
              <a:rPr b="0" i="1" lang="en-US" sz="3200" spc="-1" strike="noStrike">
                <a:solidFill>
                  <a:srgbClr val="feb80a"/>
                </a:solidFill>
                <a:latin typeface="Gill Sans MT"/>
              </a:rPr>
              <a:t>educator’s own work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What counts as evidenc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vidence may be samples of student work, observations of students, curriculum plans, interviews with students, observations by colleagues, video &amp; audio capturing student or teacher learning/reflections – </a:t>
            </a:r>
            <a:r>
              <a:rPr b="0" lang="en-US" sz="3200" spc="-1" strike="noStrike">
                <a:solidFill>
                  <a:srgbClr val="feb80a"/>
                </a:solidFill>
                <a:latin typeface="Gill Sans MT"/>
              </a:rPr>
              <a:t>anything that will help you get clearer about your question or foc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Ref: The Evidence Process. A Collaborative Approach to Understanding and Improving Teaching and Learning (Project Zero~ Harvard School of Education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116000" y="476280"/>
            <a:ext cx="770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eb80a"/>
                </a:solidFill>
                <a:latin typeface="Gill Sans MT"/>
              </a:rPr>
              <a:t>Evidence can be in any form</a:t>
            </a:r>
            <a:r>
              <a:rPr b="0" lang="en" sz="2800" spc="-1" strike="noStrike">
                <a:solidFill>
                  <a:srgbClr val="800000"/>
                </a:solidFill>
                <a:latin typeface="Gill Sans MT"/>
              </a:rPr>
              <a:t>, includ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800000"/>
                </a:solidFill>
                <a:latin typeface="Gill Sans MT"/>
              </a:rPr>
              <a:t>informal writings and reflections, videos, websites developed, </a:t>
            </a:r>
            <a:r>
              <a:rPr b="0" lang="en-AU" sz="2800" spc="-1" strike="noStrike">
                <a:solidFill>
                  <a:srgbClr val="800000"/>
                </a:solidFill>
                <a:latin typeface="Gill Sans MT"/>
              </a:rPr>
              <a:t>negotiated tasks with negotiated assessment criteria, self assessment and reflection, group assessment, portfolios, learning journals, observations, presentations, demonstrations, peer evaluations, </a:t>
            </a:r>
            <a:r>
              <a:rPr b="0" lang="en" sz="2800" spc="-1" strike="noStrike">
                <a:solidFill>
                  <a:srgbClr val="800000"/>
                </a:solidFill>
                <a:latin typeface="Gill Sans MT"/>
              </a:rPr>
              <a:t>letters of recommendation from supervisors in an internship or community project, a journal you have kept, formal papers, programs you have participated in, self-analysis, the list of possibilities is endles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eb80a"/>
                </a:solidFill>
                <a:latin typeface="Gill Sans MT"/>
              </a:rPr>
              <a:t>The presentation and format of the evidence are limited only by your own creativit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3:25:51Z</dcterms:created>
  <dc:creator>JCollins</dc:creator>
  <dc:description/>
  <dc:language>en-US</dc:language>
  <cp:lastModifiedBy>kmiller</cp:lastModifiedBy>
  <dcterms:modified xsi:type="dcterms:W3CDTF">2010-07-29T13:33:28Z</dcterms:modified>
  <cp:revision>19</cp:revision>
  <dc:subject/>
  <dc:title>Evidence</dc:title>
</cp:coreProperties>
</file>